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7A1-FAEF-4E19-BF36-DB58E4FD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0F5-55AD-406C-9936-85FFB5A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642-8E4B-4147-AD82-9E314291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E24-F5F8-4478-BCF6-0E2EEEB3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3448-7838-410A-BD3F-355486A2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3DE9-E1BD-4E9A-936E-E7FA7AC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513-8710-4D1C-BEE9-4DC39DA7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721-00C2-4CCC-8E38-8B38E3E8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AE23-D292-471E-83D0-60AD6B0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E1EB-FDEF-465A-911A-E438865B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C0C-333A-462A-9D61-EB29D34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027-B4F0-4CB8-A63F-E80392A0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5FF2-C6F8-42B9-93CF-CF4CF85E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86A1-437C-4379-A191-69355A90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E107-3D86-4C9E-B46C-90D0D15C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000-C60C-41F3-9D67-D9A6786E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891C-E9F0-433A-B9C5-3C710C21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C32-C10E-4012-B7EF-64D06AAB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97D-545F-4B87-A397-6CE0B4AA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7D8-C2A6-4D80-A264-A404EFD4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616-802E-4DE0-A377-DDEA2274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6B9-AE00-45E8-9C8D-E7E563D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0C1-B644-4269-9F2E-AB387DD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DBB-F2A7-40ED-BC02-08B4DBC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B2A-9956-4777-BC84-AA3D3BD8AD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6B9-6177-4312-A5AC-D20D741898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работка котлов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отлован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127240" y="1292400"/>
            <a:ext cx="51674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на чертеже съезда в котлов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93800" y="47829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отлована может быть построен съезд. Съезд строится внутрь котлована перпендикулярно кромке. При построении съезда вычисляется его объем, который отображается в описании котлована и ведомости объемов раб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32280" y="2762280"/>
            <a:ext cx="803160" cy="396720"/>
          </a:xfrm>
          <a:prstGeom prst="rightArrow">
            <a:avLst>
              <a:gd name="adj1" fmla="val 50000"/>
              <a:gd name="adj2" fmla="val 50613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836960" y="1535040"/>
            <a:ext cx="3990960" cy="2847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514440" y="2044800"/>
            <a:ext cx="33368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пределения объемов земляных рабо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роения на чертежах котлованов с естественными откосами и с укреплением стен с учетом заданного рельефа местности, максимально возможной крутизны откосов и выбранных способов крепления ст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ования геологических разрезов (колонок грунтов) с выделением различных видов грунт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ования ведомости объемов работ  и обоснования выбора способа крепления ст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роения съезд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счета баланса грунтов для предварительной вертикальной планир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зможен выбор различных способов крепления стен: консольные ограждения из труб, двутавров и шпунтов с использованием анкеров, распорной системы и "островного" метода, "стена в грунте", буронабивные сваи и т.д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ализован автоматический подбор креплений на основе глубины разработки и характеристик грун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81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6880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формирование и построение на чертежах котлованов с естественными откосами и с укреплением стен с определением необходимых объемов земляных работ. Обеспечивается возможность построения котлованов в плане и разрезах, формирования ведомости объемов работ, построения съездов и т.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68480" y="561960"/>
            <a:ext cx="555624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котлована с естественными откос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57856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начала необходимо указать один или несколько контуров, образующих дно котлована. Затем указать исходную структуру грунтов для всей площадки. При необходимости можно сформировать рельеф, задав отметки рельефа в узлах сетки. Имеется возможность уточнить толщину слоев грунтов в каждой точке рельефа, а также рассчитать баланс грунтов для предварительной вертикальной планиро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76400" y="1266840"/>
            <a:ext cx="7219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5391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структуру разрабатываемых грунтов с заданием перечня видов грунтов и толщин слоев. Обеспечивается вставка сформированного геологического разреза (колонки грунтов) в черте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108160" y="885960"/>
            <a:ext cx="54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рельеф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022720"/>
            <a:ext cx="758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рельеф площадки путем задания узловых точек сетки осей с указанием отметок высот. При этом можно задать количество осей сетки рельефа и изменить размер площадки, на которой будет построена сетка рельефа. Минимальный контур площадки определяется автоматически. Для каждой заданной  точки рельефа имеется возможность  изменить толщины слоев геологического разреза (колонки грунтов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39680" y="1152360"/>
            <a:ext cx="4440240" cy="3440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4673520" y="1158840"/>
            <a:ext cx="4314960" cy="34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котлована с укреплением сте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58880" y="55785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начала необходимо указать контур, образующий дно котлована. Затем указать исходную структуру грунтов для всей площадки. При необходимости можно сформировать рельеф, задав отметки рельефа в узлах сетки. Затем подобрать способ укрепления стен. Имеется возможность полного или частичного укрепления сте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961920" y="846000"/>
            <a:ext cx="7220160" cy="46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Частичное укрепление стен котлов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8880" y="5146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й стороны котлована имеется возможность выбрать свой способ укрепления стены или оставить ее без укрепл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728720" y="1230480"/>
            <a:ext cx="568656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63840" y="1652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способа укрепления стен котлов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58880" y="57564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озможен выбор различных способов крепления стен: консольные ограждения из труб, двутавров и шпунтов с использованием анкеров, распорной системы и "островного" метода, "стена в грунте", буронабивные сваи и т.д. Реализован автоматический подбор креплений на основе глубины разработки и характеристик грун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1447920" y="722160"/>
            <a:ext cx="6459480" cy="501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3T08:04:33Z</dcterms:modified>
  <cp:revision>374</cp:revision>
  <dc:subject/>
  <dc:title>Слайд 1</dc:title>
</cp:coreProperties>
</file>